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9B97-3318-4820-8314-B16E27A9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C2F2-E8D1-4092-82B2-F83D81B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23A4-C2CE-4C3E-BDC0-9C03F8B3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4878-7E58-45D6-A898-DDA9E61C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2C5D-3C85-4EC4-9E77-D5F4C4E9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69DF-B157-42F4-938D-E2F4AC2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239E-7439-472E-B430-965CA6C4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0711-D5D6-4502-835F-344360B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2883-09EC-4510-AA70-70593E2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1465-0B54-4F4D-B1A9-8366757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F6CE-499A-400A-BD09-4A900DD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EB08-B7B2-472C-88FD-2769DCA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809-6135-44E5-BE65-F9AA051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885-4AF3-4C67-BD54-79D3731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7558-9B7E-44A6-8509-27538D5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DA1A-F469-4C11-9A17-FB8213E5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C45-A261-4569-BE4C-621677F5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548D-57CC-42B6-BA88-84473843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33AC-09BC-4AD7-ACAF-6FD6C42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5B6F-40DA-4790-A2B9-E55726D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7978-E939-4AE3-970A-E38E5CE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7DBE-9C31-4B61-84FA-506032D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68EB-CA8C-48AC-BA7F-BB65333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5106-9873-4ADC-81FC-CCF5B64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1BDF-9248-40FB-BA3E-CC1C1979A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B268-4CDD-420D-946F-36D2A3796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ality Attributes of Requirements Docu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5BBF-2D94-43DD-81F8-381B1D0A6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s of Requirements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engi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engi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aintenance engi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7CC7-7DE6-4D41-B032-08ED42406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for Requirements Document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specify only exter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specify constraints on th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be easy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serve as a reference tool for system mai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FE00-30A5-4504-A116-2FC5BC259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for Requirements Document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record forethought about the lifecycle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characterize acceptable responses to undesir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inger (19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CC89-9265-4CDA-9A5F-55E28515D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of Requirements Doc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/developers may have there own way of organizing an S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Department of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/ANSI 830-1993 Stand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455B-FBC7-4FA8-BBF9-FEF26A72D7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/ANSI Standard 830-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6D7D-A320-441F-8EB0-78F7E630C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ttributes of Requirements Document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mbig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320C-5CE2-4C90-A33E-8F7D3ED3F5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ttributes of Requirements Document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able by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18D4-F4E3-40BA-A802-4185B72B48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ttributes of Requirements Document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7AE3-5D37-4EF5-BFA8-4A26B071FB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correct if and only if every requirement stated therein represents something required of the system to be bu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EC62-2A0B-4AF1-BC01-29D40FAD21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mbig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unambiguous if and only if every requirement stated therein has only on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inimum all terms with multiple meanings must appear in a 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atural languages invite ambig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5976-43B2-4CCF-BF17-160D265EBA3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document is a formal document used to communicate the requirements to customers, engineers and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known as software requirements specifications or 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documents are usually written in natural languages (like, English, Japanese, French, etc.), which are ambiguous in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11E6-9DDD-4C27-A19F-82BDE938F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mbig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craft that are nonfriendly and have an unknown mission or the potential to enter restricted airspace within 5 minutes shall raise an ale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“and” and “or” make this an ambiguous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A7D4-CA1A-4B7A-83B0-E295F91DABC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complete if it possesses the following four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 that the software is supposed to do is included in the 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the responses of the software to all realizable classes of input data in all realizable classes of situations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362D-0460-47FB-A70A-04158884F8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ges are numbered; all figures and tables are numbered, named, and referenced; all terms and units of measure are provided; and all referenced material and sections ar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ctions are marked “To Be Determined (TB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592F-3509-4552-9891-5BB33DBEA3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verifiable if and only if every requirement stated therein is verifiable.  A requirement is verifiable if and only if there exists some finite cost effective process with which a person or machine can check that the actual as-built software product meets th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0846-9707-4A13-9311-AA81E70083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consistent if and only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rement stated therein is in conflict with other preceding documents, such as specification or a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ubset of individual requirements stated therein confli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C0F5-8C5C-46A2-B6E8-A333C6547F5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s can be any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in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ing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ing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in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4ED2-8221-4F3F-9265-6F06B30F8A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able by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readers of SRS in many cases are customers or users, who tend to be experts in an application area but are not necessarily trained in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C2BD-CCB2-49ED-A3D1-C6F1E89187D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RS is modifiable if its structure and style are such that any necessary changes to the requirements can be made easily, completely, and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index, table of contents, cross-referencing, and appropriate page-numb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ttribute deals with format and style of 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CCC3-ACD2-40DF-A70A-A35F556E7F4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traced if the origin of its requirements is clear.  That means that the SRS includes references to earlier supportiv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450B-E9C5-4975-AAD1-FFBF944826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traceable if it written in a manner that facilitates the referencing of each individual requirement stated the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A862-3977-4502-8AED-4480FD24B32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are quality attributes of a softwar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other systems which the system must integrat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98F7-A171-4D25-9167-A251A646D3E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ques for Trac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every paragraph hierarc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every paragraph hierarchically and never include more than one requirement in any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every requirement with a unique number in parentheses immediately after the requirement appears in the 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nvention for indicating a requirement, e.g.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F2C6-AA01-41BA-A309-7C338658AA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d and Traceability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-from-requirements traceability implies that we know why every requirement in the SRS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-from-requirements traceability implies that we understand which components of the software satisfy each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DB77-4CDD-4ED0-8784-2115A4B10DA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d and Traceability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-to-requirements traceability implies that every software component explicitly references those requirements that it helps to satis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-to-requirements traceability implies that all documents that preceded the SRS can reference the S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E7A0-4157-4260-9702-6CD9637E468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Indepen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design independent if it does not imply a specific software architecture or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97A5-A653-4D62-BE78-E73E64E594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annotating requirements contained in an SRS is to provide guidance to the developmen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necessity (E/D/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1865-4FDB-43C8-B804-6CE4557E4D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RS that is shorter is better, given that it meets al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E7E0-CF68-4C0C-A769-14A3268928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RS is organized if requirements contained therein are easy to locate.  This implies that requirements are arranged so that requirements that are related are co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E041-F85D-42B3-A4C6-70943C2FB4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s to Look for in an SR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, Every, All, None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ly, Therefore, Clearly, Obviously, Ev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, Sometimes, Often, Usually, Ordinarily, Customarily, Most, M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, And So Forth, And So On,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7268-C8DE-4CB6-AF18-78F1659E7A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s to Look for in an SR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Fast, Cheap, Efficient, Small,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, Processed, Rejected, Skipped,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…Then…(but missing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3ADB-EB71-4472-B357-BD050340AC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lancing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ing all the preceding attributes in an SRS i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become involved in writing an SRS, you will gain insight and experience necessary to do the balancing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uch thing as a perfect S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0EE4-A9E2-4605-8A5C-90753A024A7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pplication domain of the system, e.g., how to carry out particular types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the process used to develop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6BDD-C79C-4CBE-9F5B-9E6DAB8015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Quality: Analysis and Guidelines for Success by Capers J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nalysis and Specification by Alan M.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actitioner’s Approach to Software Engineering by Roger Pre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by I. Sommerville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Quality Practices’ by R. K. Kandt, Auerbach Publications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E71F-858E-497D-B5F3-D42F50A9A2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include both the user requirements for a system and a detailed specification of the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the user and system requirements may be integrated into one description, while in other cases user requirements are described before (as introduction to)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619F-7FFC-48BE-8CED-F9FE57B18C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ftware systems, the requirements document may include a description of the hardware on which the system is to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cument should always include an introductory chapter which provides an overview of the system and the busines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4C9F-2A3E-4EFA-BAE7-E38E936DF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lossary should also be included to document techn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cause multiple stakeholders will be reading documents and they need to understand meanings of different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ecause stakeholders have different education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3A58-A627-4C7C-B00F-7851939FB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 -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requirements document is also very important and is developed on the basis of follow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etail included i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and schedule for R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CCD8-3A50-461D-B8D0-E8B1384B0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Not be Included in S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requirements (for example, staffing, schedules, costs, milestones, activities, phases, reporting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assurance plans (for example, configuration management plans, verification and validation plans, test plans, quality assurance pl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FB64-A6B6-4C29-9B77-E58C8E73A8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7:29:05Z</dcterms:created>
  <dc:creator>Ghulam Ahmad Farrukh</dc:creator>
  <dc:description/>
  <dc:language>en-US</dc:language>
  <cp:lastModifiedBy>ahmadmohsin</cp:lastModifiedBy>
  <dcterms:modified xsi:type="dcterms:W3CDTF">2009-04-17T09:41:07Z</dcterms:modified>
  <cp:revision>110</cp:revision>
  <dc:subject/>
  <dc:title>Quality Assurance and Requirements</dc:title>
</cp:coreProperties>
</file>